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382-3D21-474F-AA87-56FCA609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1E0-9C9F-4DBF-A3C9-D7F27683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10A-E7E5-42F0-AF79-FBE9F563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433-1D70-4158-860A-EC3FB5F5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A7D-6094-4705-BE74-577660AD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483-ABBC-4A68-9680-68F0D666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DCD-0321-4093-9BCC-14892FCA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950-A74D-434F-A4D3-8F648F1C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799-9735-4F77-B991-B28FA683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0F3-8A8A-4DFB-A942-6C86392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C46-2C76-4984-A8D1-5920B102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952-4CCB-4EC5-8728-A575FC49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3746-2F21-48DE-A446-5F32F459D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04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32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54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55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8800" y="876960"/>
            <a:ext cx="8079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11-12T16:03:41Z</dcterms:modified>
  <cp:revision>698</cp:revision>
  <dc:subject/>
  <dc:title>Sin título de diapositiva</dc:title>
</cp:coreProperties>
</file>